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973-2866-4D24-B059-49081570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8AC-B191-48DB-9D3E-AB3441B6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620-0525-49E5-935D-F0E5E0B3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CDF-5E8A-4FBE-9540-604BEBEB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051-4B58-40A5-8EF3-B3131E46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90B-4E57-4803-988B-373F8BCE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D4D-73BE-411F-9F4E-87BCE4AC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AC4-6928-4A06-8BDA-10E3BFC1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947-12B6-4E25-BA71-11F72FEA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3BB-4DE2-44D5-B1B6-59A979FE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9EF-8A46-42A4-BA62-E85F5B3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00E-8E5D-42A3-9659-878D3F48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82BB-7B19-490F-A685-21EF4F822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 5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ctions and Dec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209680"/>
            <a:ext cx="624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 – Writing fractions as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 – Writing decimals as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82296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115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1197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38188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7724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305560" cy="280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557676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866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98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22:43:22Z</dcterms:created>
  <dc:creator>Susannah Graham</dc:creator>
  <dc:description/>
  <dc:language>en-US</dc:language>
  <cp:lastModifiedBy>grahams</cp:lastModifiedBy>
  <dcterms:modified xsi:type="dcterms:W3CDTF">2012-10-02T13:15:57Z</dcterms:modified>
  <cp:revision>4</cp:revision>
  <dc:subject/>
  <dc:title>Slide 1</dc:title>
</cp:coreProperties>
</file>